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0CC-5C80-47CF-8493-1FD0DFB1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F27-618E-490F-A7B3-23E25BAA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CE62C-3B28-4A0D-8A09-7B41B60F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122C4-B254-4BEB-B412-6F82B919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C1357-AC63-4B98-94D9-09EFA49B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DB58D-F110-4960-92FE-314F9F08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CF567-B8BB-4EB5-8461-162CD33D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B6BCC-E6DC-483A-A608-E212F73A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DE59D-7668-4F9F-BB15-D75D1C98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D2B86-D54B-4272-A0CE-B2596D34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FFE85-2E60-48B8-BB7B-350C4274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B00-0C3C-4C3A-ACAA-278A3BE1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794-62F8-49C3-9D07-4B9DD3AE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85E9-13D8-43D7-A42A-A1CA5E73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E9A0-8C49-47E2-AF43-590BDCB0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65D8-5E95-4C6D-AFCB-1F089B4B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DD8A-C5A8-40EF-9C71-9E8DF00E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4813-ACFA-46FE-9003-F700BD8E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DCE9-C86A-4EF0-BFBD-2AF80433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E8D6-D3CD-437C-9C1D-D8E87B32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832-83B7-4E12-B2A2-97A42ECE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7A27-B60F-4726-899C-DF22EC29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41E0-2083-4375-9C03-21E7B9C5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1C84-4B73-445A-867F-E2EE5679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2405-3A24-4F34-8A76-006FD413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77B2-9809-426E-AD77-46DD5607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844B7-92B3-443A-85D5-5C2A3C71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F0F2-6CEE-4D38-8AFC-15A5042F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ADA1-4A1B-4166-9CF8-38EA44CB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DA6A4-9398-48A8-9CAB-CA74D106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C7EF9-31D5-48C4-8132-381567EA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8A0-FC15-425C-BF57-E9D0F028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40FE0-EF9B-49B6-9903-26550EB4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94C14-9011-44D1-8094-4F6D2997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9F84B-D10B-40D3-81E5-1DB39222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830D9-579C-4765-871F-D03A99B8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BC30E-3E8C-4BC4-9EB9-A2F4F6B5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379E6-565F-4F71-ABA7-DEEEAD4D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74EF-3AB3-4DAF-BF43-47B8109D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449B0-7487-4F7A-BC23-2BEEB1AE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CC593-BC1B-4F98-AD4F-EF2FE138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4DA74-968D-4530-B52F-9453F49D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7D3-1F0B-499C-B5C9-7447309D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F213C-35F8-49A5-9011-D6B6FA0C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0BA2-5846-4B9B-B5C8-399CC4C9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F8373-8B36-42D6-B9D5-850BB4B9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9B574-C166-4C60-A94C-13F8D985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F9C70-0392-497A-BEF2-4DB7E79E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1CD4-2C89-4161-9791-39E2162E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A697-5AF9-4192-92BD-5484C78C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ABEA-486E-451D-B34E-FD387616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AEAB-0661-4459-BB2D-77C6A45E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DE620-F204-47E9-8B64-D503707D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792-74A7-41C2-9802-97DB32D4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9E8F-1B1B-4A15-AA66-E766B2BB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F442E-EDA8-4444-8D4A-0BA26864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58EE0-B4DC-4508-ADBE-2107E469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88954-5994-419A-82B0-B860E623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A7AD0-8477-46EC-BA7C-F77A18ED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5A2D-ACB2-4F3C-95A7-3C678894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763D-6E83-4405-BF9B-8BB973E2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8AB73-A120-4BE1-AE61-2EBE70E4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13C50-CF85-438D-92E5-97DE3CDF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B19F-5789-4B75-89DE-4870CBAC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B57-67C4-45A8-A43A-D3AB18D7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B802D-B929-4A4C-8408-D1039F15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C19DC-A8B9-4939-AA9A-4B7304C5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4C681-30AC-4E71-AB68-6F83AD6F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BC3B4-50D6-48FA-ABB5-B99D383F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3B472-3A48-4C0D-A923-8CFDBDBF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33C8-DB53-4543-8EEA-D6F32B1B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651BF-D90A-48FB-BDC7-AC658B32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FDE9F-36A8-46B6-894E-76DFE2CC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E989C-B081-4CAF-9AD5-3D7C562D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31E08-F34A-4E5B-8C96-40D480EE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3DC-4A03-4C05-A6DA-1C4C0215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B17B8-A6F6-4264-B0BE-7966BED8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B9952-FF2E-49F6-922F-BD307878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B93A6-9BF7-4BA6-9E78-A614BE62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B0FFF-20E0-4334-8C8F-F065FEA5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6C48B-3DC0-4E01-A281-381B7388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06B53-C1DE-412B-97C1-9531CB74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9480F-85F1-4F1C-A5CF-40B80815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4A5AB-DF55-4869-92E2-F806CC34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A4F9B-F961-46AD-AB07-A6EDF8D7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045E6-9B69-4BAA-86CD-2D53FCC3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82D-75C2-44B4-BBD4-5201DF4D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CA1D5-8BA4-4E62-BC19-AAE5A46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A8387-C46D-435D-8464-BB42FA2C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3647F-53A4-413E-AFC7-31ECCAD9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F503C-0824-4129-B706-F1F171B1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02849-CED1-4087-983E-5FA0E332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A9952-1CF1-48FD-B807-BC6A38EC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796CA-EE1D-4FF8-8D21-02186B9C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6371A-3B23-42B2-B8A6-7C76FD64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1C009-0727-4F67-B296-C0F2006E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AB68F-6639-4DF5-9E90-8C019A26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134-EEC5-4F7B-AC1A-DD810EA7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86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F98CE-92DF-466D-930B-5C9D77D5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7C8DE-2B05-4B39-8B9D-65129A96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2F5E0-B85D-40C8-96A1-E2AB3E6F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446F8-98CC-4C78-9530-37E0D807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291560"/>
            <a:ext cx="822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C0971-9C58-45F0-A177-02566C72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228564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291560"/>
            <a:ext cx="4015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6BD42-ACCE-4BA4-92A5-C2860AD5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228564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291560"/>
            <a:ext cx="26496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00DD9-5A8B-42AE-BAF7-87C5D284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3737F-6D79-4887-8387-D0111FBD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7B522-C717-4DB4-982E-6C99248A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58BB0-E51B-4F8C-98DB-FC57127D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Handage AOE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2307-D691-4456-B95B-6B3063045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7AFD-8D0E-48F9-AC3C-BD41C6E65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9992-784B-43ED-BC18-C6673271A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08EA-28C6-427F-8233-2990B4C89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90B7-489B-4901-893E-0EF581BCC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3380-1C82-4606-A1BB-105C7DAF2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E858-EE79-482B-BA73-5947D45D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835B-7972-4156-9DE6-640960563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585F-F39B-475D-AFF4-0BAACA5E7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Handage AOE"/>
              </a:rPr>
              <a:t>Chapter 11 Review</a:t>
            </a:r>
            <a:endParaRPr b="0" lang="en-US" sz="60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5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Handage AOE"/>
              </a:rPr>
              <a:t>What are subordinate ideas?  Can they be coordinate to each other?  Explain.</a:t>
            </a: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ordinate ideas: ideas that support more general or more important points in a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be coordinate to each other if they are equally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Handage AOE"/>
              </a:rPr>
              <a:t>What are two possible outline forms?  Why should they be kept distinct from one another (except for in the speaker’s outline)?</a:t>
            </a:r>
            <a:endParaRPr b="0" lang="en-US" sz="40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ase outline: uses phrases or ke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outline: uses complete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ing the two is confusing and in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Handage AOE"/>
              </a:rPr>
              <a:t>What is a working outline and what purpose does it serve? </a:t>
            </a: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outline: an informal, initial outline recording a speaker’s process of narrowing, focusing, and balancing a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Handage AOE"/>
              </a:rPr>
              <a:t>What is a formal outline?  Explain what should be included in this outline.</a:t>
            </a: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outline: a complete sentence outline written in sufficient detail that a person other than the speaker could understan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Handage AOE"/>
              </a:rPr>
              <a:t>What is the purpose of a speaking outline and what may it include? 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 outline: a brief outline for the speaker’s use alone and containing source citations and delivery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Handage AOE"/>
              </a:rPr>
              <a:t>What are the five purposes of outlining?  Describe each one thoroughly, and explain why each is important.</a:t>
            </a:r>
            <a:endParaRPr b="0" lang="en-US" sz="44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the scope of the speaker’s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the logical relations among parts of the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the relevance of supporting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e balance or proportion of the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s as notes during the delivery of the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Handage AOE"/>
              </a:rPr>
              <a:t>What traditional principles or rules help simplify outlining?  Describe the five discussed in Chapter 11.  How do these guidelines help make outlining less difficult? </a:t>
            </a:r>
            <a:endParaRPr b="0" lang="en-US" sz="4000" spc="-1" strike="noStrike">
              <a:solidFill>
                <a:srgbClr val="1c1c1c"/>
              </a:solidFill>
              <a:latin typeface="Handage AO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etter or number should represent only on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and subordinate points should be represented by a consistent system of numbers and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point has subpoints under it, there must be at least two sub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ymbol in a sentence outline should introduce a complete sent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points throughout the outline should have parallel grammatical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7:43:27Z</dcterms:created>
  <dc:creator>nuhs</dc:creator>
  <dc:description/>
  <dc:language>en-US</dc:language>
  <cp:lastModifiedBy>nuhs</cp:lastModifiedBy>
  <dcterms:modified xsi:type="dcterms:W3CDTF">2008-02-27T00:03:37Z</dcterms:modified>
  <cp:revision>4</cp:revision>
  <dc:subject/>
  <dc:title>Chapter 11 Review</dc:title>
</cp:coreProperties>
</file>